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659-5861-45DC-9988-0EE5A8D3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25A-DDBF-4C08-A433-90F18DD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31D-4BE1-40B1-9344-552FD924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A65-32C4-4CDD-86FC-971E6BF7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B2-B805-4571-B655-6B02DE65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495-A93A-4415-B3A5-DACD8DB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109-5070-4B9B-A7E9-06DD7C51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3D4-AF74-448F-89E3-8C0A48F7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770-2712-4EC3-98C3-C9C5C284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8F9-FC05-4EF3-ABC2-0AEF5862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D98-DC4F-43BF-BC5E-B7980C7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345-5104-4913-8154-17F8B4A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5F3F-4F04-4E81-8E0E-5028349C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 таблице зашифровано 14 названий физических величин. Найд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628640"/>
          <a:ext cx="8785440" cy="4941720"/>
        </p:xfrm>
        <a:graphic>
          <a:graphicData uri="http://schemas.openxmlformats.org/drawingml/2006/table">
            <a:tbl>
              <a:tblPr/>
              <a:tblGrid>
                <a:gridCol w="798480"/>
                <a:gridCol w="798480"/>
                <a:gridCol w="798840"/>
                <a:gridCol w="798480"/>
                <a:gridCol w="798480"/>
                <a:gridCol w="798480"/>
                <a:gridCol w="798480"/>
                <a:gridCol w="798480"/>
                <a:gridCol w="798480"/>
                <a:gridCol w="798480"/>
                <a:gridCol w="80028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0:13:21Z</dcterms:created>
  <dc:creator>Семья</dc:creator>
  <dc:description/>
  <dc:language>en-US</dc:language>
  <cp:lastModifiedBy>Семья</cp:lastModifiedBy>
  <dcterms:modified xsi:type="dcterms:W3CDTF">2012-04-19T10:13:21Z</dcterms:modified>
  <cp:revision>1</cp:revision>
  <dc:subject/>
  <dc:title>Слайд 1</dc:title>
</cp:coreProperties>
</file>